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A1C-8D19-4BCF-9314-DBE97DB7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53D-0A81-4407-A1A3-6077B5F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E8B-C29F-4AB2-A212-C7E5456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78E-393A-4A83-AC57-10710D46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408-14ED-4D19-8D54-8DAA41A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DA2-F6A7-4149-9BED-E830A2A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D82-856B-4230-AD28-80BE78C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25A-52C0-4525-A4F1-32E6387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D6C-9B25-4413-8F27-AF92CFD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8FE-4490-4795-A41D-9925C99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CC1-33F4-41AC-AEC2-CB5752AE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4F0-0797-4BDA-97F1-D6CB5812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8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5051-54BA-4AB8-ADF1-D4A3E1B44676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8296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Deviance and Crime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1244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47840"/>
            <a:ext cx="1701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hould someone who is against all church and religion be allowed to teach at a college or university, or not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1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hould a person who believes Blacks are genetically inferior be allowed to teach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2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36840" y="1422360"/>
            <a:ext cx="5905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ow do you feel about public nudit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is immoral and should never be allow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is okay as long as it is contained within specific boundar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t should be allowed anytime, anywhe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3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you lie down with dogs, you wake up with fleas.”  This phrase is closely related to what theor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trai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uman capital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nomie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ifferential associatio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4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o you favor or oppose the death penalty for person’s convicted of murde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avo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ppos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included in Instructor’s Manual only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5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someone is broke and they have hungry children at home and they steal food to survive, should they punished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es, the law is the law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, they need other forms of interven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6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>TRIO</dc:creator>
  <dc:description/>
  <cp:keywords/>
  <dc:language>en-US</dc:language>
  <cp:lastModifiedBy>Lauren Blish Houlihan</cp:lastModifiedBy>
  <dcterms:modified xsi:type="dcterms:W3CDTF">2008-06-05T20:13:44Z</dcterms:modified>
  <cp:revision>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